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gif" ContentType="image/gif"/>
  <Override PartName="/ppt/media/image8.jpeg" ContentType="image/jpeg"/>
  <Override PartName="/ppt/media/image9.gif" ContentType="image/gif"/>
  <Override PartName="/ppt/media/start.wav" ContentType="audio/x-wav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E5FA3-EC22-4259-998A-FD9B3AB670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D0A52-DC5E-4B50-B01A-813798F1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CD7CD8-DEC0-47E8-9167-276787AE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A69991-4D9A-4651-ACDE-C73DF73D4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C044E2-E3C5-4BF2-9EFA-FA4003FC4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86D74A-F8AA-4971-B4A1-7E34ACE3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546EFD-94B3-4903-AA4A-27E1C498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985D88-BCF3-45B6-8C2C-A211DA65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15167F-46E7-4891-A030-6117F724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E4254D-2D56-4FA1-9A0B-74DF6732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B4E181-EBE7-42F6-84B7-1C6CF55840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B9343-6F26-466C-A225-D167A9423A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26BFD-6DD2-4353-9408-C0B3A5C5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6ED18-FA87-41D8-9BFF-1F980C4E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EAD92-E32B-4EB8-8CD1-B9B9C254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07428-0831-4D99-846C-22B6B54E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8C3AC-107F-4EDF-AD75-1C4234132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EC945-EF0E-438A-B6FB-81E0DEAF7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03ACE-1D9F-4C9E-B170-0D2C9D9C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BCC23-A504-45B9-88CA-CE6BCDF5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1C99D-326E-47B4-90BF-FE04D19C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3D3A5-4483-4224-9F4B-CF9D7A8F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27413-012F-4138-B8D3-114A9D08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A56FD-81BE-4650-AC11-0991BBCAEA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01539-24D4-404D-9BDE-77797838E8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9ECC91-D3B3-49EB-B45E-B2626B4A43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7C351C-6A21-4E82-94B1-869A8D6D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6C2BA0-EE87-439F-873F-3F671B43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8D2B3A-E41A-461F-9ECB-6BBCBAD3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37E67F-1B29-4000-BC7A-BEEFF76B0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8E43E9-12B9-4067-8B85-0BCF72E8B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EB6350-38A0-4BFD-BAD7-284459A8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36E3B2-30BF-4717-8C11-2EAE7BF0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14EA14-ABD4-4410-A3D6-DB79BA2D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BAA2B4-073E-4B6C-8ADF-514661A6F8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92ED40-EB75-4361-BEE3-F32456F0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2A1856-88E3-42FD-8F4B-69C98FF7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5FB5B9-3889-44FF-AE93-F51F4833AE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3C9198-3309-463A-9F7E-901089A8C8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FBC661-DBA7-45DD-9D38-9E3E3CE5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1A87BE-E598-41EB-A4A3-E1C7C84F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3C5246-FB3C-4AE9-AD94-5BE5569D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2D0710-41DE-4557-9E6F-3525F2D82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FDDA82-1734-4F6E-AD00-79A23FD6A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CBDB4B-EEBC-42F1-9C06-6096FCF5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79DA13-6580-4DB5-9BD4-4ABA5F17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D74547-7784-47CC-B112-3B4D3766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5F583F-769D-4779-AC13-58992679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C95C3C-D9C2-48D5-9767-E14D3A41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487505-736A-48DC-B10A-D34D499D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147035-0200-4F54-9E97-770FEA2B84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3C9E8-0EA6-4106-8DB9-6133F97D67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4B448A-304C-4937-87D6-BC78142E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9BEE1-13A0-4C0B-86E4-F316624F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E9979-D0A6-4565-9CD9-A252BC00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03448-0817-4D8C-BB8D-A4ED1B09A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17FCB-82C5-4E5D-A3DA-6EC8823A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A8048-E15B-4633-BA48-D6FAFDF8C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81793-E39F-47EE-ADE9-44982A87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C0570-1788-42B8-A1A1-A8CBF06A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761BF-F9BB-4B2D-930A-95D8DE58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3EB21-A7CD-4E81-A690-F36DAFC7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AA385-5775-4A03-8A47-73E5A12D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0CA4B-C248-4F06-A7DF-DF36E38085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91F7D4-7004-4DFE-BCF2-BBF805F743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6E700B-37B0-4FEA-9670-49D5BE33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BA43AC-5456-4E71-846C-543163C5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4DB8B-B019-4920-AAA0-4E346BAE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F20EB1-BB66-4269-9F23-1A7E2683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62C086-5B92-4096-88EE-45D5D6797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0E0895-E49B-49AB-9EF1-D363CDA4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1196DD-94D3-4A3C-AC68-03C0E27B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82033E-067E-4AA2-A681-5DDB8E57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B48B7F-7592-4B20-9476-002E8A58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C8F406-D251-4DDF-8CAB-8E39B102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6F1B4E-DDE7-452C-AAB2-041397C5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2723F1-E04B-409A-BD47-8F89B85C0B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DE8AAED-123A-4777-BB1E-6767E9523A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1A516-0605-4C72-98F9-483F785C8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491B43-3ED3-49A6-BA0F-9B18E645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E9A8016-11DD-4174-BC35-B904F2BA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DE104FE-42C9-481C-BCFB-1D390CDD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29084B7-8B43-4076-9FCF-02278C442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4D4B0E0-E0BA-49DA-A12F-8AB295764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01CF386-B6F2-4039-852F-215A9081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33063B9-1569-47E8-AB6E-E36594BB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705B6F0-5358-4086-BCE5-928F6067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A7E1C0C-75F7-4C05-AA86-E61C1B9D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343BD44-D8CE-4CC6-BE07-2593FCEB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6CE93-9517-42BB-A1F6-03D7DA886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AAAD55A-487A-46C3-8CE3-55AC7CCCB9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074C5-3D29-4DE4-A0E7-38164A2FBA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90114-0197-48F0-B229-1666F90F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CBF61-4802-451F-9CBA-B6A8CC06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74F20-6BA0-4BF6-BF16-CA16BFED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ED3C2-6A04-46A6-B247-8F79E0FF2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CD12F-95B1-4D1C-86C2-5E935B15E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E20DB-3F35-44A4-89F5-763F7F8B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7C3D1-1E24-43E9-8103-4A97F87D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A8CA3-D39B-4038-BE34-4B7B9CDA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CA4D8-A091-4B9E-8064-93D45177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6673D-DD9A-4F40-A2D8-7CCEC218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F7BAB-E811-49C5-A1CE-B6FCECD4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B331F-FC07-4DFD-ADFC-0B1CEDD92E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3DA233-D39F-4415-BC51-A349BA708A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AE2FE67-E4E9-4EEB-9960-EDBFAC6B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3ED32BB-E4E3-4506-9EE4-EA4096DE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0A807F-1A67-4728-B935-C7524631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29BC01-5908-4B22-8CAF-F55D89CB2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D8E171A-9164-4383-90D3-7CEB97F2F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FC96B6D-4E34-48BF-868B-F275AD4E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A7574-6090-4091-B620-44DC677C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3D4C1A-7DAF-4C45-A66C-37CBC23C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5A0FE2-0F22-44E9-964E-331D4528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E077897-85EB-47CE-8DE3-186EDABC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A8DF5E8-F931-43F4-B7B9-9E9787BD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3B58304-C213-405E-9C50-17B6B619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290C695-C17C-4EED-A31E-E109F1BD20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3CA0F84-CF95-4577-95A2-BDDF2BB057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E391DCA-7F75-420F-A034-BCA11E5A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6847357-9F69-47F5-9EFC-5F957322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0DFD7D9-52E4-41AA-A719-B740E4FA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E910AD4-62F8-4212-96E6-412C5C43F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123D3-56B3-4DA8-AE33-ED8015C1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1D3A028-5378-45CA-9436-950AC5FE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4FDB44C-EE6D-4859-8B94-98B94438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E7A97FB-6C57-4582-8798-B5DD05D5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A55DCC8-9735-485A-A2DA-E7862FE3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79B58CC-2AE3-47B4-B313-814B2C50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3E35C86-0E3A-4B71-9BF5-910612E5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CDBA97D-E446-4417-AC0C-69CFFCFD21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887895-7374-4461-BF58-1A9CF19086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0660C9-1652-4EDA-88E0-3AFE712D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DDEDEB-E0F7-4266-8F65-F344EA67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698A6-09B4-4FFA-84F6-44B4C689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F30829-55A1-4654-9B81-3FBD8216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E0BF81-0100-4D8D-A853-3E22A4FE2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6687FB-26FB-48A2-9F56-BF3C0DF3A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3FB716-AA72-4F1A-AAFD-F461078A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823CCB-784A-4B60-B8E7-86E47DCB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BE3D29-3536-40ED-B1D2-9E2BA3ED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59D41C-23C0-460E-B198-B29AC47C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08FB89-301E-4E7E-800B-8A7C1072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E81619-C8A6-46DF-BAEC-E254FDFF22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D4687FB-5922-445E-994C-ABAACE3486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04E2A-1864-4FC2-9272-74C99BD6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0A6C7FA-F922-4ECF-B15E-4D5D6287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983DA8B-B43A-482D-9AC1-806E75C4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5963C3A-B56A-443E-8C2C-146B9F8C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3760D46-1948-424A-B70F-50C2D1FD2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B5402B5-55C7-447A-A83F-C68733243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4F9494C-16B4-44BB-8812-E4E61BB2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6F8BC15-AA58-430E-8435-356FEF48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90E3A20-1F28-4BAD-A4AE-2ADC4639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9E72BAD-56CC-4FBB-A132-83543EE1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0BC03EC-490A-40F5-BBE2-56C308E5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7CD93-B2D4-450E-9250-C5DE58B793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1F25240-DAF0-4FCC-9E65-D56711B3B3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01FFC50-58E4-4633-8E45-B7D78E4AF9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9E9BF04-6F42-4A3C-9F2C-85665E59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11D4457-D690-4CE8-BDC9-C7FE22D1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CB41A35-1B4E-4547-B7AB-605D217B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354FC04-F83C-421E-A61C-CD25A0446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E94EE21-E9B0-4BE4-AE49-983682B09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E302AD5-6E8F-46EE-86F1-C5D7DB01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AEBF163-5BA2-46A0-AD4B-C8EC109F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77BFF52-05F4-439C-B627-F3D7D999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1BB35E-1E78-4A55-827A-ADA4DBAA5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19539C8-F3CA-4F66-9914-D81ACBD6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788F7C0-A184-4D0B-A7A4-491EBE79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1885CA7-2FA7-4D1A-97CB-9B29E35D28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0B5278-B9F9-47C7-AD11-BAF7870D2B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41EC00-64C0-4FB2-8603-BC230C41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5565E0-11F9-4355-AB5D-1CBEAFFD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1506B4-46C2-42F8-970C-8C651724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56C2A0-A38C-4146-8021-6D34E818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7F5856-B574-48C9-B094-46BD9A592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B9700D-32C6-4050-8F57-FC5EB471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CA9949-E4B7-4FE9-BA45-61E7BB83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5A6F4D-B8A9-4ADD-A350-ED022CB7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C0CB34-7F97-48D7-A37C-EB75D2B9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972873-708C-4F56-9354-2A003B20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DCB900-5D70-4E11-8321-D514DB81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2A57AE-1D8B-4211-8473-F517A78615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270C730-058A-41FA-AE7A-0D2C131453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0C6332F-8AEC-438C-B6AC-3427D240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AC66A91-0506-4CEC-803E-1A45A3CF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0E1FFCA-E030-4235-9DE8-B1CBB6F5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A103F7B-11DE-446B-9B6E-CBF331E4E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DE7C5F-33E7-4BCE-89ED-AB34265E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7732700-D10E-44B7-B319-ADEB395C2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0950838-D820-4F7D-9F52-17DA19EF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05D1CA5-E3BD-45F1-8ABB-1B3D2B26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DBC2656-D111-48D8-8F03-6090424D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F2764C8-6B15-4EA8-B5D0-40B3F604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AB2739F-A66E-441B-BA13-6EE6AB77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023F155-5691-48D3-9CAD-F84A6F353E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0183956-F3AB-4222-8EBD-9ADA2CF5C0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DB6E38B-09B9-434C-84AD-927F6B01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23E8A49-C0A5-4572-A882-BD13442E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98AAA1-5D54-49AB-9CB4-04745D29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DD0E8CB-1019-43B6-BCAE-EB32D255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3AF3A55-10ED-4DFE-AB22-66D965129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541416E-2688-432A-9FAE-E72469BE1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777108B-D40E-432A-AFA0-855A9BDD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A93BC70-5C7F-41BB-B92B-F9B78B2A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11ACB0D-E076-49AC-9725-380C0015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8A10EB2-867D-44A2-92C8-1A855D6B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499A6B0-7E24-434B-95A7-28116A9F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5CBD030-9593-4915-A517-EF8363EE9C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B620D6-FB49-4AF8-91F0-337DE12FA3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A72C20-1103-474B-84D0-96188A33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E2CE24-E404-4B87-A98D-9D1A9113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B4B59D-C476-4D98-A556-0E9FCAD6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DCCB0C-20C3-42F0-8261-E8ED6CCC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5FE23A-0010-4466-BE49-1C30C0AC6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8675D5-5D2A-4729-8B97-0F1FDF3B8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17EC4D-5344-49FE-A431-9D2E4179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76ACBD-00C8-4F6C-9555-CE325AEB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5E5D37-3EF1-471B-A4B6-0A534071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ECF267-14F4-4DEE-AC5E-98F4B747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4A98E6-C025-4593-8773-6264C7B1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BE602-9B5F-4182-9901-B20EC552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2D3046-6618-4B16-B802-838FF83E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4A1ED3-6F82-4618-8D2E-D9C06BF471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A984AF-4E8A-4D77-9F7C-E365BC819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EFFAC9-679A-4F1D-A7D1-75621CAB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239A84-E9F1-40E7-AA60-2F1FF2C8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0F991C-C268-4E20-8C42-F4E95C94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9A00BD-D2E8-40B5-AAEC-AFC97D3D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15E4EE-F9EE-4DA7-912E-65A4D0BA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0AA6F4-3FC3-4951-B64C-34FE798E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32EE7C-0201-44E5-BAE4-F717AF36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EA3573-5D45-46D3-8BF3-17190BBB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136CF0-67CB-4874-BEE3-BC32D331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015DC8-F620-4C5C-A4D2-AA33A726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777DFA-CF76-4183-828A-9B50B4913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D647D1-91C8-408C-BF4B-9DC1C48B2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EE4CDF-A12B-47CF-9655-FB6D09080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790244-564E-4307-ADED-280EA148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D9B898-ECA7-46F5-A961-E22D4C09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400CF1-6E54-48B3-8E4E-89473CD6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D286A8-025E-4CFF-866D-36D6CD49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4FBEA5-9F51-476E-94C8-756CC9D4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C1B453-4887-45E5-8704-835CC159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8DBA18-D1AE-40E7-8971-5FC61F7E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7FED98-8FDF-462A-A575-65D0DD0B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029212-3395-491A-8185-40C4C6C7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AD2779-A49E-4FAC-9F04-081B3FA5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D74496-F829-4E5F-8AE9-C332BAFA4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F03A04-E529-4127-80D4-9CA7B954C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975C0C-9987-4B97-8E64-2EC77D1DE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61564F-EB6E-4891-A04E-08F8937F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48C4AF-A27E-490A-BB38-703DC56C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B5B773-A3FC-4018-BF3C-CFBA8B5C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3E127F-931A-4A51-90F8-53B10583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5CEAFB-A2A5-4CA4-919E-674D9D15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860EF6-0559-47CF-AC27-A9AFF8DA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99417D-A0FF-4DA1-B3FF-05A6535B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FA8EE4-EE8C-4A8D-A600-CFB53009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03FF51-246A-46A7-BB48-C33615A7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4E4934-F7EA-424D-87FB-C60EC62B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B528D5-F768-418F-9A9B-A65386DFA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8A266C-F9DA-4965-98ED-F783C662A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BC4A98-2D65-4A28-AC2F-BD7103E66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407A4D-BEED-4307-BC86-A01F8DE4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8C61FB-1C86-4394-925F-89A19174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91A7A7-D51E-4CE1-BA5A-318132E1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D152E9-5043-47A6-A29A-3977AF59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2D3A90-94D4-4651-9410-DF3A6FBD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7B970B-0A30-4CEA-914D-59FB57AF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71AE1A-55D9-4A9D-AADE-ADC1F239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7061C7-5318-4744-8511-BD7B31F1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EDF069-32CA-40D2-AE9E-59406483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AB6E2C-799B-4164-8D78-9BE966F7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F35509-68EB-46D1-9E6C-659F120D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DA8088-CAF1-4D39-81A8-8AF59005E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D9A921-372C-45F7-B9D5-FBA699C5E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AA9721-88E4-4EF5-9F4B-41A1704C0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4E58B8-B53B-490E-B0CC-C76072C5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E1F917-988E-4F93-9A1C-69E246E0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3A75C5-5279-423B-AE5D-19B38B71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961486-FBBE-4B39-A9A4-F54FC1D4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0B9FC9-1C45-482E-A255-1ABD037E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7AD181-E05D-46DF-AEB4-6EBF5AB8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2794C2-B222-46B4-9115-CCEC08EC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C653CA-97B9-4E09-A594-D21B428E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1EB853-7EA4-4AD4-AE66-0BBA624C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4BB552-624E-4B72-9AB5-D5F4FB276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695B1D-AC0D-4B13-B840-3AAB2028C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210A9D-C257-4AFF-BF65-02A2B106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A80CED-E808-421F-9869-50600748F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97A03A-6386-4558-8FEE-091B21D5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7A633D-EB77-4083-A72A-4D57125F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05C37E-29EE-45E3-B220-F44E6F6F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AEED97-0356-4D75-8C5D-1C650FD4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23807A-6B80-4954-8849-7E61BD75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584111-E93A-4A4E-A354-ED5EE6E1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6586D6-C33D-4716-819A-CE280054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18E518-2CE0-4F4E-9179-BD0CDFEB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BC97E-4D99-4BCE-B617-528446FC18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5CB281-AC35-4564-A1E9-7EBF4074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C8471A-4694-417E-9295-1A0C0265C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97B133-99A6-4647-A1D8-630DC1A82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918865-CE25-44CA-B1F7-3DB472427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6BE139-5C92-4B53-B36B-81544EA0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552EDB-8201-4AD4-BE85-02D309FC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5552E0-029B-4398-AC9C-AF7EBC28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D12D95-1481-4930-B099-D77519AD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2C9877-43B3-48B6-B946-D04E86B8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3E76C4-B5D9-42E8-948E-DD5BBCF2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F6047-9C5D-4480-A462-81E8EC37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2BDA4E-01E6-4BDA-8D84-1433E45D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F17918-567F-4B05-AAF9-B92A48CB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CBDC77-E3E6-49FB-AAFE-74971887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1C6353-4A99-4F80-9061-DE59EF3E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19DFC5-50FB-4E23-8AA9-9FD494A2E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A54BA11-CB02-4BDB-A870-4A7E10F15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015CDD3-18DB-43BF-9B15-442342A9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5B127F-4E73-4C50-9F5C-664DB9DE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46384EF-0D1A-4B44-B84D-3E826189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F2DECD-479A-44A7-A9B4-14671954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E4694-B82A-424A-A95B-AE1E2197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70F79B-90EF-44C1-A962-158243DF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83674E-9F86-47BF-9DA6-194233AE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A5C3D7-FF99-4B14-93BF-B5C8608B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4D52106-3A0D-45B4-B7B9-B94C5A04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1003F43-1560-4167-995A-48EBDE7D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2C947C-0602-4CCB-9BD0-434BA1F72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526837A-63FC-4139-85C1-11228BF77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A6841E1-2605-44F6-BB75-EF6C4F88A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AE982F1-AD78-472A-A112-4F4A3DB2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34271C-348A-460B-B9C3-B1295C79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ECF0B-8CCE-4E8F-95A2-F730D146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2AFBE-227C-4C38-8C8F-1836CE49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708FE69-4782-45FB-AD10-89DDB9DE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5FD538F-9B06-4C29-AE52-B3EC9CD3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60529BD-2124-495E-81E6-14F30097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86961E-2D9B-4B1E-9962-6592A9CE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293FA4-9F6F-49AF-AAEE-C76D2E4D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BE9C354-70E7-4BAD-88B1-614B39DD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9316878-9088-46A6-8D0E-9C5F6D4F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CD2243-23E2-4485-A1C4-4611B0102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399FFB-5037-48E1-986E-E6985DDA2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D4CD937-7D69-4E21-B33E-B8CA75771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FD9C3-FE6A-43ED-9AB6-818177B92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56FBE9C-ED13-4091-8ED3-3180F670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092F4C-6A6F-4A14-94ED-3ECF551E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60780B2-106A-46ED-9249-0FA73EAF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0CFDD1B-D706-4293-A3E0-CDBA9134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EB9363A-5C55-448B-B2A6-7FC1F7DA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6D2D74-AD33-4DC7-931C-39E6540A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60D77BB-12BB-48D1-9B17-21049068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A9E9973-3E36-47DF-9F17-95529C77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B80591E-6427-4DEC-A738-968E1FCB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5C429E2-B746-49BA-B324-548B9D42F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6F37F-1DF4-4856-8AD3-351276544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CF983C6-A329-4554-9B32-DEFA5363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2363F1A-2D14-4E7B-BA66-B4B7E852F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3B6D07B-7324-451B-A4DD-7B6C603D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8A0C08E-8D93-41C2-871B-DC4F2E14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EDF132E-0590-4285-8695-0B03FC88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FA1F1F4-9C76-4D6E-9605-140229C1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E41A95C-12FD-49A2-9FA3-C374962C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4DDAAFA-221E-4154-9CF8-7A37D50E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4396FB0-1BD0-4577-9CDF-D4EDE337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8A53E7D-B4EA-4E40-AEA0-FAF55CD8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DC771-0612-4151-A31F-85AB8B0C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A018072-0D73-49A3-B2BB-7C46C5C7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7FBF8B0-4E64-4B59-BE8D-23BB0C1E2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77C8AED-561C-4CEA-8694-493E2E4F2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8B8FB-8B4C-4D0F-B49B-454CCCC5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2EF4F-6631-43FC-B661-89DAC35C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53146-8DEF-4D3B-B683-39F0D6B6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0940B-8631-4B52-90EE-729B076D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A125E-66EA-4F02-83F6-B8B28FBEEB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6F1674-7F1C-4599-97D0-2438A7E785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AF7F6-6934-4D92-B7B1-C2DBD6482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F2DF7D-FCDB-4D6B-9771-E4409709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EA384A-8A47-4AC3-B35C-8C5111F2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5D4CB1-E0A2-4974-89E2-D49DB8DB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9C2563-A026-45A9-9B43-62B3D606E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84085A-31F1-4612-B7DF-5D3E67C69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8C5DB0-7CDE-4CF8-A26E-8A1625B2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1F74AB-3BE2-4524-922A-6A2EFC27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17DA2C-8A1B-410C-B931-FFE991E7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C8CEF5-4E44-47B6-8F25-298E1DD7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49254F-7291-4478-B1B4-DD0D70E5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CB751-5195-40C9-A6D7-CCC24B5F8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22CE6A-163F-4A98-81FF-63817A8C75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4D0682-D5AA-4FFD-874D-3BCCA51528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66003F-C254-41D9-B91B-6B47F8FC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E7A83C-71B1-4BA1-9F35-E4C75AD9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F77FC9-B1DE-4BFA-9979-315C5741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B2D65D-98ED-4C0B-9BB9-D558F7D31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50C19E-4D69-4076-8F09-F84D66783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36661E-232C-4A37-B12C-FA3EEA49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12AC40-2420-4E96-8A18-495C64DC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BE8D79-9877-48E5-905F-AB05BC8D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BE161-E5F7-4C66-B5DE-E628516C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C0F31E-F490-48A3-8250-82647591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1D37C9-6BFE-48A0-8D43-662CA4C8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CB8F95-C0BA-42D2-991F-72F005F4D6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AB079-381C-494A-8780-859F033410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D7F32-736A-4B52-8054-AB1789D1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0686A-C37F-42F8-9CD5-0B44E690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4E59D-2681-454C-A7FC-CF4726A2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3587E-3557-4AC1-B290-B2CD63251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858C1-9621-4CBF-B448-259D9B141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00DC4-D687-4B03-B61C-F18F6439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DF136-1C8D-4953-A66F-8172C152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4298E-C9D8-479C-BC35-D32583CB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99CE9-DD58-4889-890B-9C6DE3A9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6351F-4BF8-411F-AD54-3857E67D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2DF52-495B-422C-B364-B2A88EFB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B163C-485F-497B-B80C-3B476F268B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934426-426C-4040-BED0-F0EA4EEB74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A3A133-5445-4555-A2D2-5C3745A5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35239F-8FAE-49AE-88F3-157FDAA1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9C4605-7274-4DB2-A494-0DFBCBEA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D1EE6D-4708-4980-B8D6-5F3CED73A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AFA46-7913-45F2-B514-1609B128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5D1646-084B-40A4-B578-A312F5D02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D4CB47-6E05-4156-915A-8444C8A8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AFF752-C16D-47DF-B3A1-C54DEE6C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7164DC-6EDB-4B2D-A788-333F26FF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E21AD2-759D-403B-9408-9C462D2D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47AA95-CD33-4F9A-BE9B-37156D2C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177F2F-1FF4-444D-A248-CF156D92B6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27CEA3-6FE1-4412-B037-8EF49D03E4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8EF896-1F70-4BC4-829D-0B4D133F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CA1B71-0ECE-4DD3-B88B-1E106704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072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072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072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072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072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072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072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CC7A-6DE3-4380-87C0-1F9E97EC827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6E17-5632-46A7-8FE7-F78E9229453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A7A4-49B1-4B2A-9E61-1100A7C7F51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E893-E097-4DE2-8D42-1B63F7EA9A2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E002-760E-40E2-B25C-FF3361CA034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CEFC-C59A-42B5-AA16-137BBAE9DA9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F27E-DDDC-4439-8329-AC90DA5A7B8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3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2FB3-4957-44E9-9ACE-2D106FE60D1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9C03-D05B-4521-8108-F85E48EE2BC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ACE5-1D69-4302-81B5-02577B6ED6F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3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7791-973D-4560-8C3D-AA2D4B28699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02AB-AC4E-435F-9C48-B8CF00CA5B5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3958-D63A-4430-9F8C-D92F120BB2E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sldNum" idx="4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32EC-1E68-463E-8F2C-123DE6FC9F8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4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9338-1637-45FB-8539-873C756BE61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2516-E500-4259-BD73-625611ED956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 type="dt" idx="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 type="sldNum" idx="4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83CF-21DF-4AF9-99CD-55E26BFDC23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5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BE2D-B3E8-4302-AAFE-21903471D99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C2C3-5D29-4CB6-ABDD-0BA7134EA9F3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7A9D-6E29-40C2-9951-9AA3ADE30B50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9325-59AF-400A-B8D4-ED26D105C944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ftr" idx="6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1111-1679-41C1-8EE8-D332A520B6C5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96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7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8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9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0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6365-B6BA-42B8-861B-A50E297BE52C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6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5714-E7F9-4A40-9032-4605C1909437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6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A7BD-1FB8-42B6-B902-1E3880574A24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 type="ftr" idx="7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17BD-1566-459C-B212-8F3CED042E62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 type="ftr" idx="7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9032-625C-4436-9C63-BACCFF0F8B01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 type="ftr" idx="7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E968-FFB0-48E2-9416-16EBFB4CB424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 type="ftr" idx="8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3EDB-6E02-4EF6-8271-E08A74F6024A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8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FDBB-2B85-47B2-B5D3-467C9AFBD719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31745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43" name="椭圆 31746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4" name="椭圆 31747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5" name="椭圆 31748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6" name="椭圆 31749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7" name="椭圆 31750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8" name="椭圆 31751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0CFD-C89C-45FA-B6C8-E62D1A27732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E688-3E8B-45AF-9282-B1B4469F036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7AFB-D78B-4964-BA84-69648D1A585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24B0-824C-4A6B-923F-2B52C14BBC6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A060-D4FB-47D8-B96F-A5CACF7AD33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52C4-10FD-43AB-9FAC-853D9A6682B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audio" Target="../media/start.wav"/><Relationship Id="rId14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矩形 26625"/>
          <p:cNvSpPr/>
          <p:nvPr/>
        </p:nvSpPr>
        <p:spPr>
          <a:xfrm>
            <a:off x="269640" y="5176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1" name="矩形 26626"/>
          <p:cNvSpPr/>
          <p:nvPr/>
        </p:nvSpPr>
        <p:spPr>
          <a:xfrm>
            <a:off x="485640" y="5392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2" name="TextBox 3"/>
          <p:cNvSpPr/>
          <p:nvPr/>
        </p:nvSpPr>
        <p:spPr>
          <a:xfrm>
            <a:off x="747720" y="1989000"/>
            <a:ext cx="568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例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用方向和距离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确定物体的位置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3" name="Rectangle 7"/>
          <p:cNvSpPr/>
          <p:nvPr/>
        </p:nvSpPr>
        <p:spPr>
          <a:xfrm>
            <a:off x="1692360" y="620640"/>
            <a:ext cx="5283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位置与方向（二）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5" name="Picture 2" descr="星08"/>
          <p:cNvPicPr/>
          <p:nvPr/>
        </p:nvPicPr>
        <p:blipFill>
          <a:blip r:embed="rId1"/>
          <a:stretch/>
        </p:blipFill>
        <p:spPr>
          <a:xfrm>
            <a:off x="7315200" y="68580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3" descr="星08"/>
          <p:cNvPicPr/>
          <p:nvPr/>
        </p:nvPicPr>
        <p:blipFill>
          <a:blip r:embed="rId2"/>
          <a:stretch/>
        </p:blipFill>
        <p:spPr>
          <a:xfrm>
            <a:off x="304920" y="487692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1637" name="WordArt 4"/>
          <p:cNvSpPr txBox="1"/>
          <p:nvPr/>
        </p:nvSpPr>
        <p:spPr>
          <a:xfrm>
            <a:off x="1523880" y="4572000"/>
            <a:ext cx="6096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uFillTx/>
                <a:latin typeface="宋体"/>
              </a:rPr>
              <a:t>Good Bye!</a:t>
            </a:r>
            <a:endParaRPr b="0" i="1" lang="en-US" sz="3200" spc="-1" strike="noStrike" u="sng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uFillTx/>
              <a:latin typeface="宋体"/>
              <a:ea typeface="宋体"/>
            </a:endParaRPr>
          </a:p>
        </p:txBody>
      </p:sp>
      <p:pic>
        <p:nvPicPr>
          <p:cNvPr id="1638" name="Picture 5" descr="星08"/>
          <p:cNvPicPr/>
          <p:nvPr/>
        </p:nvPicPr>
        <p:blipFill>
          <a:blip r:embed="rId5"/>
          <a:stretch/>
        </p:blipFill>
        <p:spPr>
          <a:xfrm>
            <a:off x="539640" y="5535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6" descr="星08"/>
          <p:cNvPicPr/>
          <p:nvPr/>
        </p:nvPicPr>
        <p:blipFill>
          <a:blip r:embed="rId6"/>
          <a:stretch/>
        </p:blipFill>
        <p:spPr>
          <a:xfrm>
            <a:off x="7451640" y="1197000"/>
            <a:ext cx="1258920" cy="790560"/>
          </a:xfrm>
          <a:prstGeom prst="rect">
            <a:avLst/>
          </a:prstGeom>
          <a:ln w="0">
            <a:noFill/>
          </a:ln>
        </p:spPr>
      </p:pic>
      <p:sp>
        <p:nvSpPr>
          <p:cNvPr id="1640" name="WordArt 7"/>
          <p:cNvSpPr txBox="1"/>
          <p:nvPr/>
        </p:nvSpPr>
        <p:spPr>
          <a:xfrm>
            <a:off x="1476360" y="2924280"/>
            <a:ext cx="5832360" cy="71280"/>
          </a:xfrm>
          <a:prstGeom prst="rect">
            <a:avLst/>
          </a:prstGeom>
        </p:spPr>
        <p:txBody>
          <a:bodyPr wrap="none" fromWordArt="1" lIns="90000" rIns="90000" tIns="24840" bIns="24840" anchor="t" anchorCtr="1">
            <a:prstTxWarp prst="textArchUp">
              <a:avLst>
                <a:gd name="adj" fmla="val 108003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 u="sng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uFillTx/>
                <a:latin typeface="宋体"/>
              </a:rPr>
              <a:t>再见</a:t>
            </a:r>
            <a:endParaRPr b="1" i="1" lang="en-US" sz="6600" spc="-1" strike="noStrike" u="sng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uFillTx/>
              <a:latin typeface="宋体"/>
              <a:ea typeface="宋体"/>
            </a:endParaRPr>
          </a:p>
        </p:txBody>
      </p:sp>
      <p:pic>
        <p:nvPicPr>
          <p:cNvPr id="1641" name="Picture 8" descr="星08"/>
          <p:cNvPicPr/>
          <p:nvPr/>
        </p:nvPicPr>
        <p:blipFill>
          <a:blip r:embed="rId9"/>
          <a:stretch/>
        </p:blipFill>
        <p:spPr>
          <a:xfrm>
            <a:off x="539640" y="476280"/>
            <a:ext cx="884520" cy="88416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9" descr="星08"/>
          <p:cNvPicPr/>
          <p:nvPr/>
        </p:nvPicPr>
        <p:blipFill>
          <a:blip r:embed="rId10"/>
          <a:stretch/>
        </p:blipFill>
        <p:spPr>
          <a:xfrm>
            <a:off x="676440" y="987480"/>
            <a:ext cx="1258560" cy="79056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10" descr="星08"/>
          <p:cNvPicPr/>
          <p:nvPr/>
        </p:nvPicPr>
        <p:blipFill>
          <a:blip r:embed="rId11"/>
          <a:stretch/>
        </p:blipFill>
        <p:spPr>
          <a:xfrm>
            <a:off x="7451640" y="522936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11" descr="星08"/>
          <p:cNvPicPr/>
          <p:nvPr/>
        </p:nvPicPr>
        <p:blipFill>
          <a:blip r:embed="rId12"/>
          <a:stretch/>
        </p:blipFill>
        <p:spPr>
          <a:xfrm>
            <a:off x="7588080" y="5740560"/>
            <a:ext cx="1258920" cy="7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51228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一、复习导入，揭示课题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2"/>
          <p:cNvSpPr/>
          <p:nvPr/>
        </p:nvSpPr>
        <p:spPr>
          <a:xfrm>
            <a:off x="357120" y="6037200"/>
            <a:ext cx="83581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问题：你会在地图上辨别东南西北四个方向吗？（学生指图说明）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486" name="图片 19459" descr="未标题-1"/>
          <p:cNvPicPr/>
          <p:nvPr/>
        </p:nvPicPr>
        <p:blipFill>
          <a:blip r:embed="rId1"/>
          <a:stretch/>
        </p:blipFill>
        <p:spPr>
          <a:xfrm>
            <a:off x="1380960" y="1465200"/>
            <a:ext cx="5712120" cy="4859280"/>
          </a:xfrm>
          <a:prstGeom prst="rect">
            <a:avLst/>
          </a:prstGeom>
          <a:ln w="0">
            <a:noFill/>
          </a:ln>
        </p:spPr>
      </p:pic>
      <p:sp>
        <p:nvSpPr>
          <p:cNvPr id="1487" name="矩形 19461"/>
          <p:cNvSpPr/>
          <p:nvPr/>
        </p:nvSpPr>
        <p:spPr>
          <a:xfrm>
            <a:off x="7038720" y="350028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2"/>
          <p:cNvSpPr/>
          <p:nvPr/>
        </p:nvSpPr>
        <p:spPr>
          <a:xfrm>
            <a:off x="500040" y="357120"/>
            <a:ext cx="40719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9" name="Rectangle 26"/>
          <p:cNvSpPr/>
          <p:nvPr/>
        </p:nvSpPr>
        <p:spPr>
          <a:xfrm>
            <a:off x="428760" y="5083560"/>
            <a:ext cx="349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知道了什么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490" name="图片 20483" descr="20"/>
          <p:cNvPicPr/>
          <p:nvPr/>
        </p:nvPicPr>
        <p:blipFill>
          <a:blip r:embed="rId1"/>
          <a:stretch/>
        </p:blipFill>
        <p:spPr>
          <a:xfrm>
            <a:off x="539640" y="1557360"/>
            <a:ext cx="4516560" cy="2521080"/>
          </a:xfrm>
          <a:prstGeom prst="rect">
            <a:avLst/>
          </a:prstGeom>
          <a:ln w="0">
            <a:noFill/>
          </a:ln>
        </p:spPr>
      </p:pic>
      <p:sp>
        <p:nvSpPr>
          <p:cNvPr id="1491" name="AutoShape 27"/>
          <p:cNvSpPr/>
          <p:nvPr/>
        </p:nvSpPr>
        <p:spPr>
          <a:xfrm>
            <a:off x="4284720" y="2565360"/>
            <a:ext cx="4537080" cy="1286280"/>
          </a:xfrm>
          <a:prstGeom prst="wedgeRoundRectCallout">
            <a:avLst>
              <a:gd name="adj1" fmla="val -36500"/>
              <a:gd name="adj2" fmla="val -9426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目前台风中心位于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A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市东偏南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30°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方向、距离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A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市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600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km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的洋面上，正以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0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千米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/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时的速度沿直线向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A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市移动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2" name="矩形 20486"/>
          <p:cNvSpPr/>
          <p:nvPr/>
        </p:nvSpPr>
        <p:spPr>
          <a:xfrm>
            <a:off x="7038720" y="21337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Rectangle 2"/>
          <p:cNvSpPr/>
          <p:nvPr/>
        </p:nvSpPr>
        <p:spPr>
          <a:xfrm>
            <a:off x="500040" y="357120"/>
            <a:ext cx="40719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4" name="Rectangle 26"/>
          <p:cNvSpPr/>
          <p:nvPr/>
        </p:nvSpPr>
        <p:spPr>
          <a:xfrm>
            <a:off x="4337640" y="1735560"/>
            <a:ext cx="3370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东偏南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0 °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是什么意思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5" name="Rectangle 26"/>
          <p:cNvSpPr/>
          <p:nvPr/>
        </p:nvSpPr>
        <p:spPr>
          <a:xfrm>
            <a:off x="4086360" y="2219760"/>
            <a:ext cx="57322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看动画，说说你对东偏南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0 °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的理解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6" name="Rectangle 26"/>
          <p:cNvSpPr/>
          <p:nvPr/>
        </p:nvSpPr>
        <p:spPr>
          <a:xfrm>
            <a:off x="4086360" y="2733840"/>
            <a:ext cx="4321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能说出红色线表示的方向吗？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7" name="Rectangle 26"/>
          <p:cNvSpPr/>
          <p:nvPr/>
        </p:nvSpPr>
        <p:spPr>
          <a:xfrm>
            <a:off x="4086360" y="3227760"/>
            <a:ext cx="5257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看动画，说说你对西偏南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0 °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的理解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8" name="Rectangle 26"/>
          <p:cNvSpPr/>
          <p:nvPr/>
        </p:nvSpPr>
        <p:spPr>
          <a:xfrm>
            <a:off x="4121280" y="3732480"/>
            <a:ext cx="5041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这两个方向有什么相同点和不同点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499" name="组合 21511"/>
          <p:cNvGrpSpPr/>
          <p:nvPr/>
        </p:nvGrpSpPr>
        <p:grpSpPr>
          <a:xfrm>
            <a:off x="250920" y="3367080"/>
            <a:ext cx="1908000" cy="1185480"/>
            <a:chOff x="250920" y="3367080"/>
            <a:chExt cx="1908000" cy="1185480"/>
          </a:xfrm>
        </p:grpSpPr>
        <p:grpSp>
          <p:nvGrpSpPr>
            <p:cNvPr id="1500" name="组合 21512"/>
            <p:cNvGrpSpPr/>
            <p:nvPr/>
          </p:nvGrpSpPr>
          <p:grpSpPr>
            <a:xfrm>
              <a:off x="250920" y="3479760"/>
              <a:ext cx="1848600" cy="1072800"/>
              <a:chOff x="250920" y="3479760"/>
              <a:chExt cx="1848600" cy="1072800"/>
            </a:xfrm>
          </p:grpSpPr>
          <p:sp>
            <p:nvSpPr>
              <p:cNvPr id="1501" name="直接连接符 21513"/>
              <p:cNvSpPr/>
              <p:nvPr/>
            </p:nvSpPr>
            <p:spPr>
              <a:xfrm flipH="1">
                <a:off x="250920" y="3483720"/>
                <a:ext cx="1848600" cy="106884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02" name="任意多边形 21514"/>
              <p:cNvSpPr/>
              <p:nvPr/>
            </p:nvSpPr>
            <p:spPr>
              <a:xfrm flipH="1" rot="18972000">
                <a:off x="1771560" y="3482280"/>
                <a:ext cx="71280" cy="157680"/>
              </a:xfrm>
              <a:custGeom>
                <a:avLst/>
                <a:gdLst/>
                <a:ahLst/>
                <a:rect l="l" t="t" r="r" b="b"/>
                <a:pathLst>
                  <a:path fill="none" w="21600" h="23749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22328"/>
                      <a:pt x="21564" y="23048"/>
                      <a:pt x="21494" y="23751"/>
                    </a:cubicBezTo>
                  </a:path>
                  <a:path stroke="0" w="21600" h="23749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22328"/>
                      <a:pt x="21564" y="23048"/>
                      <a:pt x="21494" y="23751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503" name="文本框 21515"/>
            <p:cNvSpPr/>
            <p:nvPr/>
          </p:nvSpPr>
          <p:spPr>
            <a:xfrm>
              <a:off x="1222200" y="336708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0°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04" name="组合 21516"/>
          <p:cNvGrpSpPr/>
          <p:nvPr/>
        </p:nvGrpSpPr>
        <p:grpSpPr>
          <a:xfrm>
            <a:off x="255600" y="1547640"/>
            <a:ext cx="3968640" cy="3815640"/>
            <a:chOff x="255600" y="1547640"/>
            <a:chExt cx="3968640" cy="3815640"/>
          </a:xfrm>
        </p:grpSpPr>
        <p:grpSp>
          <p:nvGrpSpPr>
            <p:cNvPr id="1505" name="组合 21517"/>
            <p:cNvGrpSpPr/>
            <p:nvPr/>
          </p:nvGrpSpPr>
          <p:grpSpPr>
            <a:xfrm>
              <a:off x="255600" y="1547640"/>
              <a:ext cx="3968640" cy="3815640"/>
              <a:chOff x="255600" y="1547640"/>
              <a:chExt cx="3968640" cy="3815640"/>
            </a:xfrm>
          </p:grpSpPr>
          <p:grpSp>
            <p:nvGrpSpPr>
              <p:cNvPr id="1506" name="组合 21518"/>
              <p:cNvGrpSpPr/>
              <p:nvPr/>
            </p:nvGrpSpPr>
            <p:grpSpPr>
              <a:xfrm>
                <a:off x="255600" y="1547640"/>
                <a:ext cx="3968640" cy="3815640"/>
                <a:chOff x="255600" y="1547640"/>
                <a:chExt cx="3968640" cy="3815640"/>
              </a:xfrm>
            </p:grpSpPr>
            <p:sp>
              <p:nvSpPr>
                <p:cNvPr id="1507" name="任意多边形 21519"/>
                <p:cNvSpPr/>
                <p:nvPr/>
              </p:nvSpPr>
              <p:spPr>
                <a:xfrm rot="2628000">
                  <a:off x="2412720" y="3482280"/>
                  <a:ext cx="71280" cy="157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3749">
                      <a:moveTo>
                        <a:pt x="0" y="0"/>
                      </a:moveTo>
                      <a:cubicBezTo>
                        <a:pt x="11929" y="0"/>
                        <a:pt x="21600" y="9671"/>
                        <a:pt x="21600" y="21600"/>
                      </a:cubicBezTo>
                      <a:cubicBezTo>
                        <a:pt x="21600" y="22328"/>
                        <a:pt x="21564" y="23048"/>
                        <a:pt x="21494" y="23751"/>
                      </a:cubicBezTo>
                    </a:path>
                    <a:path stroke="0" w="21600" h="23749">
                      <a:moveTo>
                        <a:pt x="0" y="0"/>
                      </a:moveTo>
                      <a:cubicBezTo>
                        <a:pt x="11929" y="0"/>
                        <a:pt x="21600" y="9671"/>
                        <a:pt x="21600" y="21600"/>
                      </a:cubicBezTo>
                      <a:cubicBezTo>
                        <a:pt x="21600" y="22328"/>
                        <a:pt x="21564" y="23048"/>
                        <a:pt x="21494" y="23751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08" name="文本框 21520"/>
                <p:cNvSpPr/>
                <p:nvPr/>
              </p:nvSpPr>
              <p:spPr>
                <a:xfrm>
                  <a:off x="828720" y="4571640"/>
                  <a:ext cx="122400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00</a:t>
                  </a:r>
                  <a:r>
                    <a:rPr b="0" i="1" lang="en-US" sz="16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km</a:t>
                  </a:r>
                  <a:endPara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09" name="文本框 21521"/>
                <p:cNvSpPr/>
                <p:nvPr/>
              </p:nvSpPr>
              <p:spPr>
                <a:xfrm>
                  <a:off x="2547720" y="3400200"/>
                  <a:ext cx="935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0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°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1510" name="组合 21522"/>
                <p:cNvGrpSpPr/>
                <p:nvPr/>
              </p:nvGrpSpPr>
              <p:grpSpPr>
                <a:xfrm>
                  <a:off x="255600" y="1547640"/>
                  <a:ext cx="3968640" cy="3815640"/>
                  <a:chOff x="255600" y="1547640"/>
                  <a:chExt cx="3968640" cy="3815640"/>
                </a:xfrm>
              </p:grpSpPr>
              <p:grpSp>
                <p:nvGrpSpPr>
                  <p:cNvPr id="1511" name="组合 21523"/>
                  <p:cNvGrpSpPr/>
                  <p:nvPr/>
                </p:nvGrpSpPr>
                <p:grpSpPr>
                  <a:xfrm>
                    <a:off x="636480" y="1960200"/>
                    <a:ext cx="3024000" cy="3024360"/>
                    <a:chOff x="636480" y="1960200"/>
                    <a:chExt cx="3024000" cy="3024360"/>
                  </a:xfrm>
                </p:grpSpPr>
                <p:sp>
                  <p:nvSpPr>
                    <p:cNvPr id="1512" name="直接连接符 21524"/>
                    <p:cNvSpPr/>
                    <p:nvPr/>
                  </p:nvSpPr>
                  <p:spPr>
                    <a:xfrm>
                      <a:off x="2126880" y="1960200"/>
                      <a:ext cx="0" cy="30243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  <a:headEnd len="med" type="arrow" w="med"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13" name="直接连接符 21525"/>
                    <p:cNvSpPr/>
                    <p:nvPr/>
                  </p:nvSpPr>
                  <p:spPr>
                    <a:xfrm flipH="1">
                      <a:off x="636480" y="3471840"/>
                      <a:ext cx="30240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  <a:headEnd len="med" type="arrow" w="med"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sp>
                <p:nvSpPr>
                  <p:cNvPr id="1514" name="文本框 21526"/>
                  <p:cNvSpPr/>
                  <p:nvPr/>
                </p:nvSpPr>
                <p:spPr>
                  <a:xfrm>
                    <a:off x="3575160" y="3193920"/>
                    <a:ext cx="649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楷体_GB2312"/>
                        <a:ea typeface="楷体_GB2312"/>
                      </a:rPr>
                      <a:t>东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15" name="文本框 21527"/>
                  <p:cNvSpPr/>
                  <p:nvPr/>
                </p:nvSpPr>
                <p:spPr>
                  <a:xfrm>
                    <a:off x="1874880" y="1547640"/>
                    <a:ext cx="649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楷体_GB2312"/>
                        <a:ea typeface="楷体_GB2312"/>
                      </a:rPr>
                      <a:t>北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16" name="文本框 21528"/>
                  <p:cNvSpPr/>
                  <p:nvPr/>
                </p:nvSpPr>
                <p:spPr>
                  <a:xfrm>
                    <a:off x="255600" y="3184200"/>
                    <a:ext cx="649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楷体_GB2312"/>
                        <a:ea typeface="楷体_GB2312"/>
                      </a:rPr>
                      <a:t>西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17" name="文本框 21529"/>
                  <p:cNvSpPr/>
                  <p:nvPr/>
                </p:nvSpPr>
                <p:spPr>
                  <a:xfrm>
                    <a:off x="1908000" y="4903560"/>
                    <a:ext cx="6494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楷体_GB2312"/>
                        <a:ea typeface="楷体_GB2312"/>
                      </a:rPr>
                      <a:t>南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  <p:sp>
            <p:nvSpPr>
              <p:cNvPr id="1518" name="直接连接符 21530"/>
              <p:cNvSpPr/>
              <p:nvPr/>
            </p:nvSpPr>
            <p:spPr>
              <a:xfrm flipH="1" flipV="1">
                <a:off x="2104920" y="3465360"/>
                <a:ext cx="1869480" cy="1079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519" name="组合 21531"/>
            <p:cNvGrpSpPr/>
            <p:nvPr/>
          </p:nvGrpSpPr>
          <p:grpSpPr>
            <a:xfrm>
              <a:off x="973080" y="4920840"/>
              <a:ext cx="360360" cy="73440"/>
              <a:chOff x="973080" y="4920840"/>
              <a:chExt cx="360360" cy="73440"/>
            </a:xfrm>
          </p:grpSpPr>
          <p:sp>
            <p:nvSpPr>
              <p:cNvPr id="1520" name="直接连接符 21532"/>
              <p:cNvSpPr/>
              <p:nvPr/>
            </p:nvSpPr>
            <p:spPr>
              <a:xfrm>
                <a:off x="973080" y="4994280"/>
                <a:ext cx="36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21" name="直接连接符 21533"/>
              <p:cNvSpPr/>
              <p:nvPr/>
            </p:nvSpPr>
            <p:spPr>
              <a:xfrm flipV="1">
                <a:off x="973080" y="4920840"/>
                <a:ext cx="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22" name="直接连接符 21534"/>
              <p:cNvSpPr/>
              <p:nvPr/>
            </p:nvSpPr>
            <p:spPr>
              <a:xfrm flipV="1">
                <a:off x="1326960" y="4920840"/>
                <a:ext cx="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523" name="文本框 21535"/>
          <p:cNvSpPr/>
          <p:nvPr/>
        </p:nvSpPr>
        <p:spPr>
          <a:xfrm>
            <a:off x="4205160" y="4365720"/>
            <a:ext cx="790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台风中心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4" name="ShockwaveFlash2" descr=""/>
          <p:cNvPicPr/>
          <p:nvPr/>
        </p:nvPicPr>
        <p:blipFill>
          <a:blip r:embed="rId1"/>
          <a:stretch/>
        </p:blipFill>
        <p:spPr>
          <a:xfrm>
            <a:off x="593640" y="284040"/>
            <a:ext cx="8371080" cy="6280200"/>
          </a:xfrm>
          <a:prstGeom prst="rect">
            <a:avLst/>
          </a:prstGeom>
          <a:ln w="0">
            <a:noFill/>
          </a:ln>
        </p:spPr>
      </p:pic>
      <p:pic>
        <p:nvPicPr>
          <p:cNvPr id="1525" name="图片 22530" descr=""/>
          <p:cNvPicPr/>
          <p:nvPr/>
        </p:nvPicPr>
        <p:blipFill>
          <a:blip r:embed="rId2"/>
          <a:stretch/>
        </p:blipFill>
        <p:spPr>
          <a:xfrm>
            <a:off x="587520" y="285840"/>
            <a:ext cx="8400960" cy="62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Rectangle 26"/>
          <p:cNvSpPr/>
          <p:nvPr/>
        </p:nvSpPr>
        <p:spPr>
          <a:xfrm>
            <a:off x="3708360" y="2058840"/>
            <a:ext cx="5040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如果只考虑方向这个条件能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确定台风中心的具体位置吗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7" name="Rectangle 26"/>
          <p:cNvSpPr/>
          <p:nvPr/>
        </p:nvSpPr>
        <p:spPr>
          <a:xfrm>
            <a:off x="4275000" y="3615120"/>
            <a:ext cx="40006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认为还需要什么条件呢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8" name="Rectangle 26"/>
          <p:cNvSpPr/>
          <p:nvPr/>
        </p:nvSpPr>
        <p:spPr>
          <a:xfrm>
            <a:off x="4284720" y="4386240"/>
            <a:ext cx="43909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在图上你能找到台风中心的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具体位置吗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9" name="Rectangle 26"/>
          <p:cNvSpPr/>
          <p:nvPr/>
        </p:nvSpPr>
        <p:spPr>
          <a:xfrm>
            <a:off x="4284720" y="5205600"/>
            <a:ext cx="4319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台风大约多少小时后到达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A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市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0" name="Rectangle 26"/>
          <p:cNvSpPr/>
          <p:nvPr/>
        </p:nvSpPr>
        <p:spPr>
          <a:xfrm>
            <a:off x="4398840" y="2757600"/>
            <a:ext cx="4500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不能，这个条件只能确定台风中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心位于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A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市的具体方向）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1" name="Rectangle 26"/>
          <p:cNvSpPr/>
          <p:nvPr/>
        </p:nvSpPr>
        <p:spPr>
          <a:xfrm>
            <a:off x="4475160" y="3991320"/>
            <a:ext cx="40006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还需要知道与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A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市距离）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32" name="组合 23559"/>
          <p:cNvGrpSpPr/>
          <p:nvPr/>
        </p:nvGrpSpPr>
        <p:grpSpPr>
          <a:xfrm>
            <a:off x="108000" y="2637000"/>
            <a:ext cx="3968640" cy="3815640"/>
            <a:chOff x="108000" y="2637000"/>
            <a:chExt cx="3968640" cy="3815640"/>
          </a:xfrm>
        </p:grpSpPr>
        <p:grpSp>
          <p:nvGrpSpPr>
            <p:cNvPr id="1533" name="组合 23560"/>
            <p:cNvGrpSpPr/>
            <p:nvPr/>
          </p:nvGrpSpPr>
          <p:grpSpPr>
            <a:xfrm>
              <a:off x="108000" y="2637000"/>
              <a:ext cx="3968640" cy="3815640"/>
              <a:chOff x="108000" y="2637000"/>
              <a:chExt cx="3968640" cy="3815640"/>
            </a:xfrm>
          </p:grpSpPr>
          <p:grpSp>
            <p:nvGrpSpPr>
              <p:cNvPr id="1534" name="组合 23561"/>
              <p:cNvGrpSpPr/>
              <p:nvPr/>
            </p:nvGrpSpPr>
            <p:grpSpPr>
              <a:xfrm>
                <a:off x="108000" y="2637000"/>
                <a:ext cx="3968640" cy="3815640"/>
                <a:chOff x="108000" y="2637000"/>
                <a:chExt cx="3968640" cy="3815640"/>
              </a:xfrm>
            </p:grpSpPr>
            <p:sp>
              <p:nvSpPr>
                <p:cNvPr id="1535" name="任意多边形 23562"/>
                <p:cNvSpPr/>
                <p:nvPr/>
              </p:nvSpPr>
              <p:spPr>
                <a:xfrm rot="2628000">
                  <a:off x="2265120" y="4571640"/>
                  <a:ext cx="71280" cy="157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3749">
                      <a:moveTo>
                        <a:pt x="0" y="0"/>
                      </a:moveTo>
                      <a:cubicBezTo>
                        <a:pt x="11929" y="0"/>
                        <a:pt x="21600" y="9671"/>
                        <a:pt x="21600" y="21600"/>
                      </a:cubicBezTo>
                      <a:cubicBezTo>
                        <a:pt x="21600" y="22328"/>
                        <a:pt x="21564" y="23048"/>
                        <a:pt x="21494" y="23751"/>
                      </a:cubicBezTo>
                    </a:path>
                    <a:path stroke="0" w="21600" h="23749">
                      <a:moveTo>
                        <a:pt x="0" y="0"/>
                      </a:moveTo>
                      <a:cubicBezTo>
                        <a:pt x="11929" y="0"/>
                        <a:pt x="21600" y="9671"/>
                        <a:pt x="21600" y="21600"/>
                      </a:cubicBezTo>
                      <a:cubicBezTo>
                        <a:pt x="21600" y="22328"/>
                        <a:pt x="21564" y="23048"/>
                        <a:pt x="21494" y="23751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36" name="文本框 23563"/>
                <p:cNvSpPr/>
                <p:nvPr/>
              </p:nvSpPr>
              <p:spPr>
                <a:xfrm>
                  <a:off x="681120" y="5661000"/>
                  <a:ext cx="122400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00km</a:t>
                  </a:r>
                  <a:endPara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37" name="文本框 23564"/>
                <p:cNvSpPr/>
                <p:nvPr/>
              </p:nvSpPr>
              <p:spPr>
                <a:xfrm>
                  <a:off x="2400120" y="4489560"/>
                  <a:ext cx="935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0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°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1538" name="组合 23565"/>
                <p:cNvGrpSpPr/>
                <p:nvPr/>
              </p:nvGrpSpPr>
              <p:grpSpPr>
                <a:xfrm>
                  <a:off x="108000" y="2637000"/>
                  <a:ext cx="3968640" cy="3815640"/>
                  <a:chOff x="108000" y="2637000"/>
                  <a:chExt cx="3968640" cy="3815640"/>
                </a:xfrm>
              </p:grpSpPr>
              <p:grpSp>
                <p:nvGrpSpPr>
                  <p:cNvPr id="1539" name="组合 23566"/>
                  <p:cNvGrpSpPr/>
                  <p:nvPr/>
                </p:nvGrpSpPr>
                <p:grpSpPr>
                  <a:xfrm>
                    <a:off x="488880" y="3049560"/>
                    <a:ext cx="3024000" cy="3024360"/>
                    <a:chOff x="488880" y="3049560"/>
                    <a:chExt cx="3024000" cy="3024360"/>
                  </a:xfrm>
                </p:grpSpPr>
                <p:sp>
                  <p:nvSpPr>
                    <p:cNvPr id="1540" name="直接连接符 23567"/>
                    <p:cNvSpPr/>
                    <p:nvPr/>
                  </p:nvSpPr>
                  <p:spPr>
                    <a:xfrm>
                      <a:off x="1979280" y="3049560"/>
                      <a:ext cx="0" cy="30243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  <a:headEnd len="med" type="arrow" w="med"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41" name="直接连接符 23568"/>
                    <p:cNvSpPr/>
                    <p:nvPr/>
                  </p:nvSpPr>
                  <p:spPr>
                    <a:xfrm flipH="1">
                      <a:off x="488880" y="4561200"/>
                      <a:ext cx="30240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  <a:headEnd len="med" type="arrow" w="med"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sp>
                <p:nvSpPr>
                  <p:cNvPr id="1542" name="文本框 23569"/>
                  <p:cNvSpPr/>
                  <p:nvPr/>
                </p:nvSpPr>
                <p:spPr>
                  <a:xfrm>
                    <a:off x="3427560" y="4283280"/>
                    <a:ext cx="649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楷体_GB2312"/>
                        <a:ea typeface="楷体_GB2312"/>
                      </a:rPr>
                      <a:t>东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43" name="文本框 23570"/>
                  <p:cNvSpPr/>
                  <p:nvPr/>
                </p:nvSpPr>
                <p:spPr>
                  <a:xfrm>
                    <a:off x="1727280" y="2637000"/>
                    <a:ext cx="649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楷体_GB2312"/>
                        <a:ea typeface="楷体_GB2312"/>
                      </a:rPr>
                      <a:t>北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44" name="文本框 23571"/>
                  <p:cNvSpPr/>
                  <p:nvPr/>
                </p:nvSpPr>
                <p:spPr>
                  <a:xfrm>
                    <a:off x="108000" y="4273560"/>
                    <a:ext cx="649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楷体_GB2312"/>
                        <a:ea typeface="楷体_GB2312"/>
                      </a:rPr>
                      <a:t>西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45" name="文本框 23572"/>
                  <p:cNvSpPr/>
                  <p:nvPr/>
                </p:nvSpPr>
                <p:spPr>
                  <a:xfrm>
                    <a:off x="1760400" y="5992920"/>
                    <a:ext cx="6494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楷体_GB2312"/>
                        <a:ea typeface="楷体_GB2312"/>
                      </a:rPr>
                      <a:t>南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  <p:sp>
            <p:nvSpPr>
              <p:cNvPr id="1546" name="直接连接符 23573"/>
              <p:cNvSpPr/>
              <p:nvPr/>
            </p:nvSpPr>
            <p:spPr>
              <a:xfrm flipH="1" flipV="1">
                <a:off x="1957320" y="4554720"/>
                <a:ext cx="1869480" cy="107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547" name="组合 23574"/>
            <p:cNvGrpSpPr/>
            <p:nvPr/>
          </p:nvGrpSpPr>
          <p:grpSpPr>
            <a:xfrm>
              <a:off x="825480" y="6010200"/>
              <a:ext cx="360360" cy="72720"/>
              <a:chOff x="825480" y="6010200"/>
              <a:chExt cx="360360" cy="72720"/>
            </a:xfrm>
          </p:grpSpPr>
          <p:sp>
            <p:nvSpPr>
              <p:cNvPr id="1548" name="直接连接符 23575"/>
              <p:cNvSpPr/>
              <p:nvPr/>
            </p:nvSpPr>
            <p:spPr>
              <a:xfrm>
                <a:off x="825480" y="6082920"/>
                <a:ext cx="36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49" name="直接连接符 23576"/>
              <p:cNvSpPr/>
              <p:nvPr/>
            </p:nvSpPr>
            <p:spPr>
              <a:xfrm flipV="1">
                <a:off x="825480" y="6010200"/>
                <a:ext cx="0" cy="72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50" name="直接连接符 23577"/>
              <p:cNvSpPr/>
              <p:nvPr/>
            </p:nvSpPr>
            <p:spPr>
              <a:xfrm flipV="1">
                <a:off x="1179360" y="6010200"/>
                <a:ext cx="0" cy="72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551" name="组合 23578"/>
          <p:cNvGrpSpPr/>
          <p:nvPr/>
        </p:nvGrpSpPr>
        <p:grpSpPr>
          <a:xfrm>
            <a:off x="108000" y="2637000"/>
            <a:ext cx="3968640" cy="3815640"/>
            <a:chOff x="108000" y="2637000"/>
            <a:chExt cx="3968640" cy="3815640"/>
          </a:xfrm>
        </p:grpSpPr>
        <p:sp>
          <p:nvSpPr>
            <p:cNvPr id="1552" name="文本框 23579"/>
            <p:cNvSpPr/>
            <p:nvPr/>
          </p:nvSpPr>
          <p:spPr>
            <a:xfrm>
              <a:off x="2197080" y="49878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600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km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53" name="组合 23580"/>
            <p:cNvGrpSpPr/>
            <p:nvPr/>
          </p:nvGrpSpPr>
          <p:grpSpPr>
            <a:xfrm>
              <a:off x="108000" y="2637000"/>
              <a:ext cx="3968640" cy="3815640"/>
              <a:chOff x="108000" y="2637000"/>
              <a:chExt cx="3968640" cy="3815640"/>
            </a:xfrm>
          </p:grpSpPr>
          <p:grpSp>
            <p:nvGrpSpPr>
              <p:cNvPr id="1554" name="组合 23581"/>
              <p:cNvGrpSpPr/>
              <p:nvPr/>
            </p:nvGrpSpPr>
            <p:grpSpPr>
              <a:xfrm>
                <a:off x="108000" y="2637000"/>
                <a:ext cx="3968640" cy="3815640"/>
                <a:chOff x="108000" y="2637000"/>
                <a:chExt cx="3968640" cy="3815640"/>
              </a:xfrm>
            </p:grpSpPr>
            <p:grpSp>
              <p:nvGrpSpPr>
                <p:cNvPr id="1555" name="组合 23582"/>
                <p:cNvGrpSpPr/>
                <p:nvPr/>
              </p:nvGrpSpPr>
              <p:grpSpPr>
                <a:xfrm>
                  <a:off x="2588040" y="4847040"/>
                  <a:ext cx="312120" cy="245520"/>
                  <a:chOff x="2588040" y="4847040"/>
                  <a:chExt cx="312120" cy="245520"/>
                </a:xfrm>
              </p:grpSpPr>
              <p:sp>
                <p:nvSpPr>
                  <p:cNvPr id="1556" name="直接连接符 23583"/>
                  <p:cNvSpPr/>
                  <p:nvPr/>
                </p:nvSpPr>
                <p:spPr>
                  <a:xfrm>
                    <a:off x="2588040" y="4912200"/>
                    <a:ext cx="312120" cy="180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57" name="直接连接符 23584"/>
                  <p:cNvSpPr/>
                  <p:nvPr/>
                </p:nvSpPr>
                <p:spPr>
                  <a:xfrm flipV="1">
                    <a:off x="2598120" y="4847040"/>
                    <a:ext cx="36360" cy="62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558" name="组合 23585"/>
                <p:cNvGrpSpPr/>
                <p:nvPr/>
              </p:nvGrpSpPr>
              <p:grpSpPr>
                <a:xfrm>
                  <a:off x="108000" y="2637000"/>
                  <a:ext cx="3968640" cy="3815640"/>
                  <a:chOff x="108000" y="2637000"/>
                  <a:chExt cx="3968640" cy="3815640"/>
                </a:xfrm>
              </p:grpSpPr>
              <p:grpSp>
                <p:nvGrpSpPr>
                  <p:cNvPr id="1559" name="组合 23586"/>
                  <p:cNvGrpSpPr/>
                  <p:nvPr/>
                </p:nvGrpSpPr>
                <p:grpSpPr>
                  <a:xfrm>
                    <a:off x="2894400" y="5019480"/>
                    <a:ext cx="312120" cy="245880"/>
                    <a:chOff x="2894400" y="5019480"/>
                    <a:chExt cx="312120" cy="245880"/>
                  </a:xfrm>
                </p:grpSpPr>
                <p:sp>
                  <p:nvSpPr>
                    <p:cNvPr id="1560" name="直接连接符 23587"/>
                    <p:cNvSpPr/>
                    <p:nvPr/>
                  </p:nvSpPr>
                  <p:spPr>
                    <a:xfrm>
                      <a:off x="2894400" y="5085360"/>
                      <a:ext cx="312120" cy="1800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61" name="直接连接符 23588"/>
                    <p:cNvSpPr/>
                    <p:nvPr/>
                  </p:nvSpPr>
                  <p:spPr>
                    <a:xfrm flipV="1">
                      <a:off x="2904120" y="5019480"/>
                      <a:ext cx="36720" cy="630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2" name="组合 23589"/>
                  <p:cNvGrpSpPr/>
                  <p:nvPr/>
                </p:nvGrpSpPr>
                <p:grpSpPr>
                  <a:xfrm>
                    <a:off x="3206880" y="5197320"/>
                    <a:ext cx="312120" cy="246240"/>
                    <a:chOff x="3206880" y="5197320"/>
                    <a:chExt cx="312120" cy="246240"/>
                  </a:xfrm>
                </p:grpSpPr>
                <p:sp>
                  <p:nvSpPr>
                    <p:cNvPr id="1563" name="直接连接符 23590"/>
                    <p:cNvSpPr/>
                    <p:nvPr/>
                  </p:nvSpPr>
                  <p:spPr>
                    <a:xfrm>
                      <a:off x="3206880" y="5263200"/>
                      <a:ext cx="312120" cy="1803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64" name="直接连接符 23591"/>
                    <p:cNvSpPr/>
                    <p:nvPr/>
                  </p:nvSpPr>
                  <p:spPr>
                    <a:xfrm flipV="1">
                      <a:off x="3216960" y="5197320"/>
                      <a:ext cx="36360" cy="630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5" name="组合 23592"/>
                  <p:cNvGrpSpPr/>
                  <p:nvPr/>
                </p:nvGrpSpPr>
                <p:grpSpPr>
                  <a:xfrm>
                    <a:off x="3495960" y="5364000"/>
                    <a:ext cx="312120" cy="246240"/>
                    <a:chOff x="3495960" y="5364000"/>
                    <a:chExt cx="312120" cy="246240"/>
                  </a:xfrm>
                </p:grpSpPr>
                <p:sp>
                  <p:nvSpPr>
                    <p:cNvPr id="1566" name="直接连接符 23593"/>
                    <p:cNvSpPr/>
                    <p:nvPr/>
                  </p:nvSpPr>
                  <p:spPr>
                    <a:xfrm>
                      <a:off x="3495960" y="5429880"/>
                      <a:ext cx="312120" cy="1803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67" name="直接连接符 23594"/>
                    <p:cNvSpPr/>
                    <p:nvPr/>
                  </p:nvSpPr>
                  <p:spPr>
                    <a:xfrm flipV="1">
                      <a:off x="3506040" y="5364000"/>
                      <a:ext cx="36360" cy="630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8" name="组合 23595"/>
                  <p:cNvGrpSpPr/>
                  <p:nvPr/>
                </p:nvGrpSpPr>
                <p:grpSpPr>
                  <a:xfrm>
                    <a:off x="108000" y="2637000"/>
                    <a:ext cx="3968640" cy="3815640"/>
                    <a:chOff x="108000" y="2637000"/>
                    <a:chExt cx="3968640" cy="3815640"/>
                  </a:xfrm>
                </p:grpSpPr>
                <p:sp>
                  <p:nvSpPr>
                    <p:cNvPr id="1569" name="任意多边形 23596"/>
                    <p:cNvSpPr/>
                    <p:nvPr/>
                  </p:nvSpPr>
                  <p:spPr>
                    <a:xfrm rot="2628000">
                      <a:off x="2265120" y="4571640"/>
                      <a:ext cx="71280" cy="15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3749">
                          <a:moveTo>
                            <a:pt x="0" y="0"/>
                          </a:moveTo>
                          <a:cubicBezTo>
                            <a:pt x="11929" y="0"/>
                            <a:pt x="21600" y="9671"/>
                            <a:pt x="21600" y="21600"/>
                          </a:cubicBezTo>
                          <a:cubicBezTo>
                            <a:pt x="21600" y="22328"/>
                            <a:pt x="21564" y="23048"/>
                            <a:pt x="21494" y="23751"/>
                          </a:cubicBezTo>
                        </a:path>
                        <a:path stroke="0" w="21600" h="23749">
                          <a:moveTo>
                            <a:pt x="0" y="0"/>
                          </a:moveTo>
                          <a:cubicBezTo>
                            <a:pt x="11929" y="0"/>
                            <a:pt x="21600" y="9671"/>
                            <a:pt x="21600" y="21600"/>
                          </a:cubicBezTo>
                          <a:cubicBezTo>
                            <a:pt x="21600" y="22328"/>
                            <a:pt x="21564" y="23048"/>
                            <a:pt x="21494" y="23751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158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70" name="文本框 23597"/>
                    <p:cNvSpPr/>
                    <p:nvPr/>
                  </p:nvSpPr>
                  <p:spPr>
                    <a:xfrm>
                      <a:off x="681120" y="5661000"/>
                      <a:ext cx="1224000" cy="385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100</a:t>
                      </a:r>
                      <a:r>
                        <a:rPr b="0" i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楷体_GB2312"/>
                        </a:rPr>
                        <a:t>km</a:t>
                      </a:r>
                      <a:endPara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71" name="文本框 23598"/>
                    <p:cNvSpPr/>
                    <p:nvPr/>
                  </p:nvSpPr>
                  <p:spPr>
                    <a:xfrm>
                      <a:off x="2400120" y="4489560"/>
                      <a:ext cx="9352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30</a:t>
                      </a: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°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grpSp>
                  <p:nvGrpSpPr>
                    <p:cNvPr id="1572" name="组合 23599"/>
                    <p:cNvGrpSpPr/>
                    <p:nvPr/>
                  </p:nvGrpSpPr>
                  <p:grpSpPr>
                    <a:xfrm>
                      <a:off x="108000" y="2637000"/>
                      <a:ext cx="3968640" cy="3815640"/>
                      <a:chOff x="108000" y="2637000"/>
                      <a:chExt cx="3968640" cy="3815640"/>
                    </a:xfrm>
                  </p:grpSpPr>
                  <p:grpSp>
                    <p:nvGrpSpPr>
                      <p:cNvPr id="1573" name="组合 23600"/>
                      <p:cNvGrpSpPr/>
                      <p:nvPr/>
                    </p:nvGrpSpPr>
                    <p:grpSpPr>
                      <a:xfrm>
                        <a:off x="488880" y="3049560"/>
                        <a:ext cx="3024000" cy="3024360"/>
                        <a:chOff x="488880" y="3049560"/>
                        <a:chExt cx="3024000" cy="3024360"/>
                      </a:xfrm>
                    </p:grpSpPr>
                    <p:sp>
                      <p:nvSpPr>
                        <p:cNvPr id="1574" name="直接连接符 23601"/>
                        <p:cNvSpPr/>
                        <p:nvPr/>
                      </p:nvSpPr>
                      <p:spPr>
                        <a:xfrm>
                          <a:off x="1979280" y="3049560"/>
                          <a:ext cx="0" cy="3024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round/>
                          <a:headEnd len="med" type="arrow" w="med"/>
                          <a:tailEnd len="med" type="arrow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i="1" lang="en-US" sz="2400" spc="-1" strike="noStrike" u="sng">
                            <a:solidFill>
                              <a:srgbClr val="000000"/>
                            </a:solidFill>
                            <a:uFillTx/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5" name="直接连接符 23602"/>
                        <p:cNvSpPr/>
                        <p:nvPr/>
                      </p:nvSpPr>
                      <p:spPr>
                        <a:xfrm flipH="1">
                          <a:off x="488880" y="4561200"/>
                          <a:ext cx="30240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round/>
                          <a:headEnd len="med" type="arrow" w="med"/>
                          <a:tailEnd len="med" type="arrow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i="1" lang="en-US" sz="2400" spc="-1" strike="noStrike" u="sng">
                            <a:solidFill>
                              <a:srgbClr val="000000"/>
                            </a:solidFill>
                            <a:uFillTx/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576" name="文本框 23603"/>
                      <p:cNvSpPr/>
                      <p:nvPr/>
                    </p:nvSpPr>
                    <p:spPr>
                      <a:xfrm>
                        <a:off x="3427560" y="4283280"/>
                        <a:ext cx="64908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2000" spc="-1" strike="noStrike" u="sng">
                            <a:solidFill>
                              <a:srgbClr val="000000"/>
                            </a:solidFill>
                            <a:uFillTx/>
                            <a:latin typeface="楷体_GB2312"/>
                            <a:ea typeface="楷体_GB2312"/>
                          </a:rPr>
                          <a:t>东</a:t>
                        </a:r>
                        <a:endPara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  <p:sp>
                    <p:nvSpPr>
                      <p:cNvPr id="1577" name="文本框 23604"/>
                      <p:cNvSpPr/>
                      <p:nvPr/>
                    </p:nvSpPr>
                    <p:spPr>
                      <a:xfrm>
                        <a:off x="1727280" y="2637000"/>
                        <a:ext cx="64908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2000" spc="-1" strike="noStrike" u="sng">
                            <a:solidFill>
                              <a:srgbClr val="000000"/>
                            </a:solidFill>
                            <a:uFillTx/>
                            <a:latin typeface="楷体_GB2312"/>
                            <a:ea typeface="楷体_GB2312"/>
                          </a:rPr>
                          <a:t>北</a:t>
                        </a:r>
                        <a:endPara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  <p:sp>
                    <p:nvSpPr>
                      <p:cNvPr id="1578" name="文本框 23605"/>
                      <p:cNvSpPr/>
                      <p:nvPr/>
                    </p:nvSpPr>
                    <p:spPr>
                      <a:xfrm>
                        <a:off x="108000" y="4273560"/>
                        <a:ext cx="64908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2000" spc="-1" strike="noStrike" u="sng">
                            <a:solidFill>
                              <a:srgbClr val="000000"/>
                            </a:solidFill>
                            <a:uFillTx/>
                            <a:latin typeface="楷体_GB2312"/>
                            <a:ea typeface="楷体_GB2312"/>
                          </a:rPr>
                          <a:t>西</a:t>
                        </a:r>
                        <a:endPara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  <p:sp>
                    <p:nvSpPr>
                      <p:cNvPr id="1579" name="文本框 23606"/>
                      <p:cNvSpPr/>
                      <p:nvPr/>
                    </p:nvSpPr>
                    <p:spPr>
                      <a:xfrm>
                        <a:off x="1760400" y="5992920"/>
                        <a:ext cx="64944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2000" spc="-1" strike="noStrike" u="sng">
                            <a:solidFill>
                              <a:srgbClr val="000000"/>
                            </a:solidFill>
                            <a:uFillTx/>
                            <a:latin typeface="楷体_GB2312"/>
                            <a:ea typeface="楷体_GB2312"/>
                          </a:rPr>
                          <a:t>南</a:t>
                        </a:r>
                        <a:endPara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580" name="椭圆 23607"/>
                  <p:cNvSpPr/>
                  <p:nvPr/>
                </p:nvSpPr>
                <p:spPr>
                  <a:xfrm>
                    <a:off x="3790800" y="5554800"/>
                    <a:ext cx="71640" cy="71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81" name="组合 23608"/>
              <p:cNvGrpSpPr/>
              <p:nvPr/>
            </p:nvGrpSpPr>
            <p:grpSpPr>
              <a:xfrm>
                <a:off x="825480" y="4157640"/>
                <a:ext cx="2189160" cy="1925640"/>
                <a:chOff x="825480" y="4157640"/>
                <a:chExt cx="2189160" cy="1925640"/>
              </a:xfrm>
            </p:grpSpPr>
            <p:sp>
              <p:nvSpPr>
                <p:cNvPr id="1582" name="直接连接符 23609"/>
                <p:cNvSpPr/>
                <p:nvPr/>
              </p:nvSpPr>
              <p:spPr>
                <a:xfrm>
                  <a:off x="1983240" y="4566240"/>
                  <a:ext cx="312120" cy="180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1583" name="组合 23610"/>
                <p:cNvGrpSpPr/>
                <p:nvPr/>
              </p:nvGrpSpPr>
              <p:grpSpPr>
                <a:xfrm>
                  <a:off x="825480" y="4157640"/>
                  <a:ext cx="2189160" cy="1925640"/>
                  <a:chOff x="825480" y="4157640"/>
                  <a:chExt cx="2189160" cy="1925640"/>
                </a:xfrm>
              </p:grpSpPr>
              <p:grpSp>
                <p:nvGrpSpPr>
                  <p:cNvPr id="1584" name="组合 23611"/>
                  <p:cNvGrpSpPr/>
                  <p:nvPr/>
                </p:nvGrpSpPr>
                <p:grpSpPr>
                  <a:xfrm>
                    <a:off x="825480" y="6009840"/>
                    <a:ext cx="360360" cy="73440"/>
                    <a:chOff x="825480" y="6009840"/>
                    <a:chExt cx="360360" cy="73440"/>
                  </a:xfrm>
                </p:grpSpPr>
                <p:sp>
                  <p:nvSpPr>
                    <p:cNvPr id="1585" name="直接连接符 23612"/>
                    <p:cNvSpPr/>
                    <p:nvPr/>
                  </p:nvSpPr>
                  <p:spPr>
                    <a:xfrm>
                      <a:off x="825480" y="6083280"/>
                      <a:ext cx="3603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86" name="直接连接符 23613"/>
                    <p:cNvSpPr/>
                    <p:nvPr/>
                  </p:nvSpPr>
                  <p:spPr>
                    <a:xfrm flipV="1">
                      <a:off x="825480" y="6009840"/>
                      <a:ext cx="0" cy="730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87" name="直接连接符 23614"/>
                    <p:cNvSpPr/>
                    <p:nvPr/>
                  </p:nvSpPr>
                  <p:spPr>
                    <a:xfrm flipV="1">
                      <a:off x="1179360" y="6009840"/>
                      <a:ext cx="0" cy="730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88" name="组合 23615"/>
                  <p:cNvGrpSpPr/>
                  <p:nvPr/>
                </p:nvGrpSpPr>
                <p:grpSpPr>
                  <a:xfrm>
                    <a:off x="2275200" y="4669200"/>
                    <a:ext cx="312120" cy="245520"/>
                    <a:chOff x="2275200" y="4669200"/>
                    <a:chExt cx="312120" cy="245520"/>
                  </a:xfrm>
                </p:grpSpPr>
                <p:sp>
                  <p:nvSpPr>
                    <p:cNvPr id="1589" name="直接连接符 23616"/>
                    <p:cNvSpPr/>
                    <p:nvPr/>
                  </p:nvSpPr>
                  <p:spPr>
                    <a:xfrm>
                      <a:off x="2275200" y="4734360"/>
                      <a:ext cx="312120" cy="1803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90" name="直接连接符 23617"/>
                    <p:cNvSpPr/>
                    <p:nvPr/>
                  </p:nvSpPr>
                  <p:spPr>
                    <a:xfrm flipV="1">
                      <a:off x="2285280" y="4669200"/>
                      <a:ext cx="36360" cy="626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840" bIns="1584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sp>
                <p:nvSpPr>
                  <p:cNvPr id="1591" name="文本框 23618"/>
                  <p:cNvSpPr/>
                  <p:nvPr/>
                </p:nvSpPr>
                <p:spPr>
                  <a:xfrm>
                    <a:off x="1933560" y="4157640"/>
                    <a:ext cx="1081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A</a:t>
                    </a: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市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592" name="文本框 23619"/>
          <p:cNvSpPr/>
          <p:nvPr/>
        </p:nvSpPr>
        <p:spPr>
          <a:xfrm>
            <a:off x="4060800" y="5661000"/>
            <a:ext cx="790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台风中心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93" name="Rectangle 2"/>
          <p:cNvSpPr/>
          <p:nvPr/>
        </p:nvSpPr>
        <p:spPr>
          <a:xfrm>
            <a:off x="500040" y="357120"/>
            <a:ext cx="40719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Rectangle 2"/>
          <p:cNvSpPr/>
          <p:nvPr/>
        </p:nvSpPr>
        <p:spPr>
          <a:xfrm>
            <a:off x="500040" y="357120"/>
            <a:ext cx="40719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三、巩固练习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95" name="Rectangle 23"/>
          <p:cNvSpPr/>
          <p:nvPr/>
        </p:nvSpPr>
        <p:spPr>
          <a:xfrm>
            <a:off x="684360" y="159444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96" name="图片 24579" descr="22"/>
          <p:cNvPicPr/>
          <p:nvPr/>
        </p:nvPicPr>
        <p:blipFill>
          <a:blip r:embed="rId1"/>
          <a:stretch/>
        </p:blipFill>
        <p:spPr>
          <a:xfrm>
            <a:off x="1979640" y="1590840"/>
            <a:ext cx="4278240" cy="2877840"/>
          </a:xfrm>
          <a:prstGeom prst="rect">
            <a:avLst/>
          </a:prstGeom>
          <a:ln w="0">
            <a:noFill/>
          </a:ln>
        </p:spPr>
      </p:pic>
      <p:sp>
        <p:nvSpPr>
          <p:cNvPr id="1597" name="矩形 24580"/>
          <p:cNvSpPr/>
          <p:nvPr/>
        </p:nvSpPr>
        <p:spPr>
          <a:xfrm>
            <a:off x="826920" y="4489560"/>
            <a:ext cx="756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学校在小明家北偏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方向上，距离是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m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书店在小明家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偏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方向上，距离是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m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邮局在小明家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偏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方向上，距离是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m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游泳馆在小明家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偏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方向上，距离是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m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98" name="文本框 24581"/>
          <p:cNvSpPr/>
          <p:nvPr/>
        </p:nvSpPr>
        <p:spPr>
          <a:xfrm>
            <a:off x="3660840" y="44416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东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99" name="文本框 24582"/>
          <p:cNvSpPr/>
          <p:nvPr/>
        </p:nvSpPr>
        <p:spPr>
          <a:xfrm>
            <a:off x="4227480" y="44845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25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°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0" name="文本框 24583"/>
          <p:cNvSpPr/>
          <p:nvPr/>
        </p:nvSpPr>
        <p:spPr>
          <a:xfrm>
            <a:off x="6491160" y="44895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400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1" name="文本框 24584"/>
          <p:cNvSpPr/>
          <p:nvPr/>
        </p:nvSpPr>
        <p:spPr>
          <a:xfrm>
            <a:off x="3156120" y="4795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东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2" name="文本框 24585"/>
          <p:cNvSpPr/>
          <p:nvPr/>
        </p:nvSpPr>
        <p:spPr>
          <a:xfrm>
            <a:off x="3851280" y="47862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南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3" name="文本框 24586"/>
          <p:cNvSpPr/>
          <p:nvPr/>
        </p:nvSpPr>
        <p:spPr>
          <a:xfrm>
            <a:off x="4405320" y="4824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3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°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4" name="文本框 24587"/>
          <p:cNvSpPr/>
          <p:nvPr/>
        </p:nvSpPr>
        <p:spPr>
          <a:xfrm>
            <a:off x="6607080" y="48434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200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5" name="文本框 24588"/>
          <p:cNvSpPr/>
          <p:nvPr/>
        </p:nvSpPr>
        <p:spPr>
          <a:xfrm>
            <a:off x="3132000" y="51624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南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6" name="文本框 24589"/>
          <p:cNvSpPr/>
          <p:nvPr/>
        </p:nvSpPr>
        <p:spPr>
          <a:xfrm>
            <a:off x="3851280" y="51703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西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7" name="文本框 24590"/>
          <p:cNvSpPr/>
          <p:nvPr/>
        </p:nvSpPr>
        <p:spPr>
          <a:xfrm>
            <a:off x="4408560" y="5184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5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°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8" name="文本框 24591"/>
          <p:cNvSpPr/>
          <p:nvPr/>
        </p:nvSpPr>
        <p:spPr>
          <a:xfrm>
            <a:off x="6611760" y="5203800"/>
            <a:ext cx="7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600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9" name="文本框 24592"/>
          <p:cNvSpPr/>
          <p:nvPr/>
        </p:nvSpPr>
        <p:spPr>
          <a:xfrm>
            <a:off x="3348000" y="55450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西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0" name="文本框 24593"/>
          <p:cNvSpPr/>
          <p:nvPr/>
        </p:nvSpPr>
        <p:spPr>
          <a:xfrm>
            <a:off x="4019400" y="55548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北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1" name="文本框 24594"/>
          <p:cNvSpPr/>
          <p:nvPr/>
        </p:nvSpPr>
        <p:spPr>
          <a:xfrm>
            <a:off x="4552920" y="557388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4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°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2" name="文本框 24595"/>
          <p:cNvSpPr/>
          <p:nvPr/>
        </p:nvSpPr>
        <p:spPr>
          <a:xfrm>
            <a:off x="6723000" y="5589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600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3" name="矩形 24597"/>
          <p:cNvSpPr/>
          <p:nvPr/>
        </p:nvSpPr>
        <p:spPr>
          <a:xfrm>
            <a:off x="7038720" y="350028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4" name="矩形 24598"/>
          <p:cNvSpPr/>
          <p:nvPr/>
        </p:nvSpPr>
        <p:spPr>
          <a:xfrm>
            <a:off x="7254720" y="371628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文本框 25601"/>
          <p:cNvSpPr/>
          <p:nvPr/>
        </p:nvSpPr>
        <p:spPr>
          <a:xfrm>
            <a:off x="1638360" y="36352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北京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16" name="组合 25602"/>
          <p:cNvGrpSpPr/>
          <p:nvPr/>
        </p:nvGrpSpPr>
        <p:grpSpPr>
          <a:xfrm>
            <a:off x="1630440" y="3174840"/>
            <a:ext cx="1224000" cy="1224000"/>
            <a:chOff x="1630440" y="3174840"/>
            <a:chExt cx="1224000" cy="1224000"/>
          </a:xfrm>
        </p:grpSpPr>
        <p:sp>
          <p:nvSpPr>
            <p:cNvPr id="1617" name="直接连接符 25603"/>
            <p:cNvSpPr/>
            <p:nvPr/>
          </p:nvSpPr>
          <p:spPr>
            <a:xfrm>
              <a:off x="1630440" y="3755880"/>
              <a:ext cx="1224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18" name="直接连接符 25604"/>
            <p:cNvSpPr/>
            <p:nvPr/>
          </p:nvSpPr>
          <p:spPr>
            <a:xfrm flipV="1">
              <a:off x="2228760" y="3174840"/>
              <a:ext cx="0" cy="12240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619" name="Rectangle 2"/>
          <p:cNvSpPr/>
          <p:nvPr/>
        </p:nvSpPr>
        <p:spPr>
          <a:xfrm>
            <a:off x="500040" y="357120"/>
            <a:ext cx="40719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三、巩固练习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20" name="Rectangle 23"/>
          <p:cNvSpPr/>
          <p:nvPr/>
        </p:nvSpPr>
        <p:spPr>
          <a:xfrm>
            <a:off x="684360" y="159444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21" name="矩形 25607"/>
          <p:cNvSpPr/>
          <p:nvPr/>
        </p:nvSpPr>
        <p:spPr>
          <a:xfrm>
            <a:off x="1065240" y="1576440"/>
            <a:ext cx="81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找一幅中国地图，量一量，说一说北京在哈尔滨的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　      　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方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向上，哈尔滨在北京的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　   　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方向上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22" name="椭圆 25608"/>
          <p:cNvSpPr/>
          <p:nvPr/>
        </p:nvSpPr>
        <p:spPr>
          <a:xfrm>
            <a:off x="2195640" y="3716280"/>
            <a:ext cx="72720" cy="73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23" name="组合 25609"/>
          <p:cNvGrpSpPr/>
          <p:nvPr/>
        </p:nvGrpSpPr>
        <p:grpSpPr>
          <a:xfrm>
            <a:off x="3484440" y="2824200"/>
            <a:ext cx="1224000" cy="1224000"/>
            <a:chOff x="3484440" y="2824200"/>
            <a:chExt cx="1224000" cy="1224000"/>
          </a:xfrm>
        </p:grpSpPr>
        <p:sp>
          <p:nvSpPr>
            <p:cNvPr id="1624" name="直接连接符 25610"/>
            <p:cNvSpPr/>
            <p:nvPr/>
          </p:nvSpPr>
          <p:spPr>
            <a:xfrm>
              <a:off x="3484440" y="3405240"/>
              <a:ext cx="1224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25" name="直接连接符 25611"/>
            <p:cNvSpPr/>
            <p:nvPr/>
          </p:nvSpPr>
          <p:spPr>
            <a:xfrm flipV="1">
              <a:off x="4082760" y="2824200"/>
              <a:ext cx="0" cy="12240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626" name="文本框 25612"/>
          <p:cNvSpPr/>
          <p:nvPr/>
        </p:nvSpPr>
        <p:spPr>
          <a:xfrm>
            <a:off x="4043520" y="296856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哈尔滨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27" name="椭圆 25613"/>
          <p:cNvSpPr/>
          <p:nvPr/>
        </p:nvSpPr>
        <p:spPr>
          <a:xfrm>
            <a:off x="4048200" y="3367080"/>
            <a:ext cx="73080" cy="73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28" name="直接连接符 25614"/>
          <p:cNvSpPr/>
          <p:nvPr/>
        </p:nvSpPr>
        <p:spPr>
          <a:xfrm flipV="1">
            <a:off x="2229840" y="3396240"/>
            <a:ext cx="1860120" cy="363240"/>
          </a:xfrm>
          <a:prstGeom prst="line">
            <a:avLst/>
          </a:prstGeom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29" name="直接连接符 25615"/>
          <p:cNvSpPr/>
          <p:nvPr/>
        </p:nvSpPr>
        <p:spPr>
          <a:xfrm flipV="1">
            <a:off x="5435640" y="2708280"/>
            <a:ext cx="0" cy="504720"/>
          </a:xfrm>
          <a:prstGeom prst="line">
            <a:avLst/>
          </a:prstGeom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0" name="文本框 25616"/>
          <p:cNvSpPr/>
          <p:nvPr/>
        </p:nvSpPr>
        <p:spPr>
          <a:xfrm>
            <a:off x="5397480" y="2708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北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1" name="文本框 25617"/>
          <p:cNvSpPr/>
          <p:nvPr/>
        </p:nvSpPr>
        <p:spPr>
          <a:xfrm>
            <a:off x="6815160" y="15796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西偏南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°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2" name="文本框 25618"/>
          <p:cNvSpPr/>
          <p:nvPr/>
        </p:nvSpPr>
        <p:spPr>
          <a:xfrm>
            <a:off x="3781440" y="1944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东偏北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°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四、全课总结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4" name="TextBox 4"/>
          <p:cNvSpPr/>
          <p:nvPr/>
        </p:nvSpPr>
        <p:spPr>
          <a:xfrm>
            <a:off x="1103400" y="2266920"/>
            <a:ext cx="7572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今天都有哪些收获？还有什么问题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dc:language>en-US</dc:language>
  <cp:lastModifiedBy>万润仪器贸易公司</cp:lastModifiedBy>
  <dcterms:modified xsi:type="dcterms:W3CDTF">2020-08-21T09:35:02Z</dcterms:modified>
  <cp:revision>30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